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FE5-195E-4EB8-9F38-0BB1496B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909-9C9C-43AE-A170-B854779A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583-7569-4F39-A1B7-98DCA85A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DDD-093E-49B6-B2B0-AE3D6904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432-6229-466F-8831-43CA3580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5B1-921A-4290-9EF5-C845BA57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3E6-4410-419C-8F99-30EE24BB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FC8-A377-4DA0-8B33-FDDD68A6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D46-D5A4-49DC-B16A-6B1B0588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AC9-2BFE-442E-9332-1CFFA704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A3B-5C8F-4674-9832-79D2AB74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375-1A75-4A57-A09A-551F85F0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C0CB-DBF3-4086-A425-65D5292C2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7180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971800" y="266688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ni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97180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373392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718080" y="11016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37180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71484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971800" y="411480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37180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716640" y="36878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33412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69343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895800" y="419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464796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4646520" y="419112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ead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746748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B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1055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Ser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2362320" y="31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2405520" y="28195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7"/>
          <p:cNvSpPr/>
          <p:nvPr/>
        </p:nvSpPr>
        <p:spPr>
          <a:xfrm flipH="1">
            <a:off x="480024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4891320" y="28195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st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6019920" y="28954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7621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Threa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76212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762120" y="2666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Li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146376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46088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>
            <a:off x="146376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454400" y="109692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>
            <a:off x="4572000" y="685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4610880" y="380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2971800" y="510552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3657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5917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urved Connector 36"/>
          <p:cNvCxnSpPr>
            <a:endCxn id="51" idx="0"/>
          </p:cNvCxnSpPr>
          <p:nvPr/>
        </p:nvCxnSpPr>
        <p:spPr>
          <a:xfrm flipH="1" rot="16200000">
            <a:off x="3752280" y="1809360"/>
            <a:ext cx="3200760" cy="1563480"/>
          </a:xfrm>
          <a:prstGeom prst="curvedConnector3">
            <a:avLst>
              <a:gd name="adj1" fmla="val 24881"/>
            </a:avLst>
          </a:prstGeom>
          <a:ln w="93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76" name="Text Box 28"/>
          <p:cNvSpPr/>
          <p:nvPr/>
        </p:nvSpPr>
        <p:spPr>
          <a:xfrm>
            <a:off x="5110200" y="198108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create, start,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57200" y="6095880"/>
            <a:ext cx="853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s is not a true UML class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t concentrates on the sample data flow and omits details like “EngineModel has reference to RDB Arch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4:44Z</dcterms:created>
  <dc:creator>Kay-Uwe Kasemir</dc:creator>
  <dc:description/>
  <dc:language>en-US</dc:language>
  <cp:lastModifiedBy>Kasemir Kay</cp:lastModifiedBy>
  <dcterms:modified xsi:type="dcterms:W3CDTF">2010-02-22T16:36:17Z</dcterms:modified>
  <cp:revision>21</cp:revision>
  <dc:subject/>
  <dc:title>PowerPoint Presentation</dc:title>
</cp:coreProperties>
</file>