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C89-CF7C-40A9-8D58-EDECE59F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8CE-1D3E-40B1-828D-7CF7D524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6ED-0578-4CCF-B805-26019FF3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13D-2535-48EC-9F6F-0695B8D7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0B8-2CE7-459A-B08B-7B6F844E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614-4E0B-4682-8FCB-0C263DE7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4BD-47CE-4C7E-A166-BEFEB59A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15F-5FA0-4D41-BFCE-BEE6C35D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B1C-FC87-4266-9E74-3A2F96E2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862-D680-4FDC-A89C-7F349919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0AF-AF14-4B45-8D88-55604986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2AE-E8C5-4273-8D1D-855A89D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80F5C-5206-4896-9BD5-41E41EDC5B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76DB4-65EA-413B-ACF3-2614EBDB9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unciator 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semirk@ornl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lternate Process 6"/>
          <p:cNvSpPr/>
          <p:nvPr/>
        </p:nvSpPr>
        <p:spPr>
          <a:xfrm>
            <a:off x="3693960" y="1789200"/>
            <a:ext cx="1670040" cy="78732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92400" y="2205000"/>
            <a:ext cx="1054440" cy="247680"/>
          </a:xfrm>
          <a:prstGeom prst="rect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ction Button: Sound 7"/>
          <p:cNvSpPr/>
          <p:nvPr/>
        </p:nvSpPr>
        <p:spPr>
          <a:xfrm>
            <a:off x="4264200" y="4062240"/>
            <a:ext cx="520560" cy="401760"/>
          </a:xfrm>
          <a:custGeom>
            <a:avLst/>
            <a:gdLst>
              <a:gd name="textAreaLeft" fmla="*/ 25920 w 520560"/>
              <a:gd name="textAreaRight" fmla="*/ 494640 w 52056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581" y="1400"/>
                </a:lnTo>
                <a:lnTo>
                  <a:pt x="1400" y="140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581" y="20200"/>
                </a:lnTo>
                <a:lnTo>
                  <a:pt x="26581" y="140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1" y="2020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1" h="21600">
                <a:moveTo>
                  <a:pt x="6984" y="8406"/>
                </a:moveTo>
                <a:lnTo>
                  <a:pt x="11414" y="8406"/>
                </a:lnTo>
                <a:lnTo>
                  <a:pt x="15836" y="3794"/>
                </a:lnTo>
                <a:lnTo>
                  <a:pt x="15836" y="17806"/>
                </a:lnTo>
                <a:lnTo>
                  <a:pt x="11414" y="13194"/>
                </a:lnTo>
                <a:lnTo>
                  <a:pt x="6984" y="13194"/>
                </a:lnTo>
                <a:close/>
              </a:path>
              <a:path fill="darken" w="27981" h="21600">
                <a:moveTo>
                  <a:pt x="17490" y="10800"/>
                </a:moveTo>
                <a:lnTo>
                  <a:pt x="20997" y="10800"/>
                </a:lnTo>
              </a:path>
              <a:path fill="darken" w="27981" h="21600">
                <a:moveTo>
                  <a:pt x="17490" y="8406"/>
                </a:moveTo>
                <a:lnTo>
                  <a:pt x="20997" y="5639"/>
                </a:lnTo>
              </a:path>
              <a:path fill="darken" w="27981" h="21600">
                <a:moveTo>
                  <a:pt x="17490" y="13194"/>
                </a:moveTo>
                <a:lnTo>
                  <a:pt x="20997" y="15961"/>
                </a:lnTo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lternate Process 8"/>
          <p:cNvSpPr/>
          <p:nvPr/>
        </p:nvSpPr>
        <p:spPr>
          <a:xfrm>
            <a:off x="3900600" y="2936880"/>
            <a:ext cx="1285920" cy="75420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nciat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own Arrow 9"/>
          <p:cNvSpPr/>
          <p:nvPr/>
        </p:nvSpPr>
        <p:spPr>
          <a:xfrm>
            <a:off x="4422600" y="3691080"/>
            <a:ext cx="201960" cy="3711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own Arrow 10"/>
          <p:cNvSpPr/>
          <p:nvPr/>
        </p:nvSpPr>
        <p:spPr>
          <a:xfrm>
            <a:off x="4425840" y="2576520"/>
            <a:ext cx="198720" cy="36036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lternate Process 11"/>
          <p:cNvSpPr/>
          <p:nvPr/>
        </p:nvSpPr>
        <p:spPr>
          <a:xfrm>
            <a:off x="3693960" y="717480"/>
            <a:ext cx="1670040" cy="47484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arm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12"/>
          <p:cNvSpPr/>
          <p:nvPr/>
        </p:nvSpPr>
        <p:spPr>
          <a:xfrm>
            <a:off x="4425840" y="1192320"/>
            <a:ext cx="209520" cy="596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8"/>
          <p:cNvSpPr/>
          <p:nvPr/>
        </p:nvSpPr>
        <p:spPr>
          <a:xfrm>
            <a:off x="3981600" y="133812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nunc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3981600" y="258588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XT, [SEVERITY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1:22Z</dcterms:created>
  <dc:creator>Kasemir Kay</dc:creator>
  <dc:description/>
  <dc:language>en-US</dc:language>
  <cp:lastModifiedBy>Kasemir Kay</cp:lastModifiedBy>
  <dcterms:modified xsi:type="dcterms:W3CDTF">2010-02-25T18:51:54Z</dcterms:modified>
  <cp:revision>3</cp:revision>
  <dc:subject/>
  <dc:title>Annunciator Graphics</dc:title>
</cp:coreProperties>
</file>