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B63-737E-4727-9FA2-E0ACCB31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522-8243-4E38-ABE1-9BB696E5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9D6-A40B-4809-84B0-D3A667C0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0A6-9B05-43A3-AF41-383BD280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A9C-0DD7-44FF-854C-802E8C9B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C10A-2F32-4E76-BEAD-E14DBE5D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75D-A672-47F1-82A8-213CEC68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9E1-1DFE-4DD7-9A08-73E06B56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26D-0ED3-49FA-B29A-7AF51B5D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7F2-7AF8-4D82-A8A1-B398AC6E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F1F-2E2B-446F-86A8-9834BCA9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CF7-5EDA-4C7B-9A69-029D46B1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DCDA-BAC0-4F0C-B91A-B0CF2D7CA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7180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971800" y="266688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ni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7180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37339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18080" y="11016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3718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71484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971800" y="41148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3718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716640" y="36878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33412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934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895800" y="419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464796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646520" y="41911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a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746748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1055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23623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2405520" y="28195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H="1">
            <a:off x="480024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91320" y="28195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019920" y="28954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7621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Threa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76212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762120" y="2666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Li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14637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46088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46376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454400" y="10969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>
            <a:off x="457200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4610880" y="380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2971800" y="51055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5917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urved Connector 36"/>
          <p:cNvCxnSpPr>
            <a:endCxn id="51" idx="0"/>
          </p:cNvCxnSpPr>
          <p:nvPr/>
        </p:nvCxnSpPr>
        <p:spPr>
          <a:xfrm flipH="1" rot="16200000">
            <a:off x="3752280" y="1809360"/>
            <a:ext cx="3200760" cy="1563480"/>
          </a:xfrm>
          <a:prstGeom prst="curvedConnector3">
            <a:avLst>
              <a:gd name="adj1" fmla="val 24881"/>
            </a:avLst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76" name="Text Box 28"/>
          <p:cNvSpPr/>
          <p:nvPr/>
        </p:nvSpPr>
        <p:spPr>
          <a:xfrm>
            <a:off x="5110200" y="1981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reate, start,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57200" y="609588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s is not a true UML clas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 concentrates on the sample data flow and omits details like “EngineModel has reference to RDB Arch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4:44Z</dcterms:created>
  <dc:creator>Kay-Uwe Kasemir</dc:creator>
  <dc:description/>
  <dc:language>en-US</dc:language>
  <cp:lastModifiedBy>Kasemir Kay</cp:lastModifiedBy>
  <dcterms:modified xsi:type="dcterms:W3CDTF">2010-02-22T16:36:17Z</dcterms:modified>
  <cp:revision>21</cp:revision>
  <dc:subject/>
  <dc:title>PowerPoint Presentation</dc:title>
</cp:coreProperties>
</file>