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28826-9DF7-4103-9AC4-D4AED2C286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2C11-9B85-49F7-B712-BAD5AF6E0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55CF-95AB-4604-8E03-B5DD7214FE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97BE0-72D4-4804-9620-042CFE4235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CE672-BC9F-4D06-8405-ACAE1038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C6BB6-5864-43DC-9FE5-0334AE2C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4A336-026A-4898-829E-B4DDE79B4E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9A64-D97A-4FC8-BFC2-BECA5EB4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169D-4717-4506-98ED-0ADF0B88C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75622-9F96-4B44-8F84-B449311686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20F5-9157-4190-A45C-3227DC9C5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5A829-21D4-48B1-9693-9E7F2007C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A5E8936-73A8-4961-8F68-C65961528116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10765CE-6058-4D17-B2CA-AFD8639CA05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nnunciator Graphic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kasemirk@ornl.gov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Alternate Process 6"/>
          <p:cNvSpPr/>
          <p:nvPr/>
        </p:nvSpPr>
        <p:spPr>
          <a:xfrm>
            <a:off x="3693960" y="1789200"/>
            <a:ext cx="1670040" cy="78732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J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5"/>
          <p:cNvSpPr/>
          <p:nvPr/>
        </p:nvSpPr>
        <p:spPr>
          <a:xfrm>
            <a:off x="3992400" y="2205000"/>
            <a:ext cx="1054440" cy="247680"/>
          </a:xfrm>
          <a:prstGeom prst="rect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Arial"/>
                <a:ea typeface="ＭＳ Ｐゴシック"/>
              </a:rPr>
              <a:t>T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Action Button: Sound 7"/>
          <p:cNvSpPr/>
          <p:nvPr/>
        </p:nvSpPr>
        <p:spPr>
          <a:xfrm>
            <a:off x="4264200" y="4062240"/>
            <a:ext cx="520560" cy="401760"/>
          </a:xfrm>
          <a:custGeom>
            <a:avLst/>
            <a:gdLst>
              <a:gd name="textAreaLeft" fmla="*/ 25920 w 520560"/>
              <a:gd name="textAreaRight" fmla="*/ 494640 w 520560"/>
              <a:gd name="textAreaTop" fmla="*/ 25920 h 401760"/>
              <a:gd name="textAreaBottom" fmla="*/ 375840 h 401760"/>
            </a:gdLst>
            <a:ahLst/>
            <a:rect l="textAreaLeft" t="textAreaTop" r="textAreaRight" b="textAreaBottom"/>
            <a:pathLst>
              <a:path w="27981" h="21600">
                <a:moveTo>
                  <a:pt x="0" y="0"/>
                </a:moveTo>
                <a:lnTo>
                  <a:pt x="27981" y="0"/>
                </a:lnTo>
                <a:lnTo>
                  <a:pt x="27981" y="21600"/>
                </a:lnTo>
                <a:lnTo>
                  <a:pt x="0" y="21600"/>
                </a:lnTo>
                <a:close/>
              </a:path>
              <a:path fill="lightenLess" w="27981" h="21600">
                <a:moveTo>
                  <a:pt x="0" y="0"/>
                </a:moveTo>
                <a:lnTo>
                  <a:pt x="27981" y="0"/>
                </a:lnTo>
                <a:lnTo>
                  <a:pt x="26581" y="1400"/>
                </a:lnTo>
                <a:lnTo>
                  <a:pt x="1400" y="1400"/>
                </a:lnTo>
                <a:close/>
              </a:path>
              <a:path fill="darken" w="27981" h="21600">
                <a:moveTo>
                  <a:pt x="27981" y="0"/>
                </a:moveTo>
                <a:lnTo>
                  <a:pt x="27981" y="21600"/>
                </a:lnTo>
                <a:lnTo>
                  <a:pt x="26581" y="20200"/>
                </a:lnTo>
                <a:lnTo>
                  <a:pt x="26581" y="1400"/>
                </a:lnTo>
                <a:close/>
              </a:path>
              <a:path fill="darkenLess" w="27981" h="21600">
                <a:moveTo>
                  <a:pt x="279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581" y="20200"/>
                </a:lnTo>
                <a:close/>
              </a:path>
              <a:path fill="lighten" w="279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981" h="21600">
                <a:moveTo>
                  <a:pt x="6984" y="8406"/>
                </a:moveTo>
                <a:lnTo>
                  <a:pt x="11414" y="8406"/>
                </a:lnTo>
                <a:lnTo>
                  <a:pt x="15836" y="3794"/>
                </a:lnTo>
                <a:lnTo>
                  <a:pt x="15836" y="17806"/>
                </a:lnTo>
                <a:lnTo>
                  <a:pt x="11414" y="13194"/>
                </a:lnTo>
                <a:lnTo>
                  <a:pt x="6984" y="13194"/>
                </a:lnTo>
                <a:close/>
              </a:path>
              <a:path fill="darken" w="27981" h="21600">
                <a:moveTo>
                  <a:pt x="17490" y="10800"/>
                </a:moveTo>
                <a:lnTo>
                  <a:pt x="20997" y="10800"/>
                </a:lnTo>
              </a:path>
              <a:path fill="darken" w="27981" h="21600">
                <a:moveTo>
                  <a:pt x="17490" y="8406"/>
                </a:moveTo>
                <a:lnTo>
                  <a:pt x="20997" y="5639"/>
                </a:lnTo>
              </a:path>
              <a:path fill="darken" w="27981" h="21600">
                <a:moveTo>
                  <a:pt x="17490" y="13194"/>
                </a:moveTo>
                <a:lnTo>
                  <a:pt x="20997" y="15961"/>
                </a:lnTo>
              </a:path>
            </a:pathLst>
          </a:custGeom>
          <a:gradFill rotWithShape="0">
            <a:gsLst>
              <a:gs pos="0">
                <a:srgbClr val="e5eeff"/>
              </a:gs>
              <a:gs pos="100000">
                <a:srgbClr val="a3c4ff"/>
              </a:gs>
            </a:gsLst>
            <a:lin ang="5400000"/>
          </a:gradFill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lternate Process 8"/>
          <p:cNvSpPr/>
          <p:nvPr/>
        </p:nvSpPr>
        <p:spPr>
          <a:xfrm>
            <a:off x="3900600" y="2936880"/>
            <a:ext cx="1285920" cy="75420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nnunciato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Down Arrow 9"/>
          <p:cNvSpPr/>
          <p:nvPr/>
        </p:nvSpPr>
        <p:spPr>
          <a:xfrm>
            <a:off x="4422600" y="3691080"/>
            <a:ext cx="201960" cy="371160"/>
          </a:xfrm>
          <a:prstGeom prst="downArrow">
            <a:avLst>
              <a:gd name="adj1" fmla="val 50000"/>
              <a:gd name="adj2" fmla="val 49875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Down Arrow 10"/>
          <p:cNvSpPr/>
          <p:nvPr/>
        </p:nvSpPr>
        <p:spPr>
          <a:xfrm>
            <a:off x="4425840" y="2576520"/>
            <a:ext cx="198720" cy="360360"/>
          </a:xfrm>
          <a:prstGeom prst="downArrow">
            <a:avLst>
              <a:gd name="adj1" fmla="val 50000"/>
              <a:gd name="adj2" fmla="val 49927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Alternate Process 11"/>
          <p:cNvSpPr/>
          <p:nvPr/>
        </p:nvSpPr>
        <p:spPr>
          <a:xfrm>
            <a:off x="3693960" y="717480"/>
            <a:ext cx="1670040" cy="474840"/>
          </a:xfrm>
          <a:prstGeom prst="flowChartAlternateProcess">
            <a:avLst/>
          </a:prstGeom>
          <a:gradFill rotWithShape="0">
            <a:gsLst>
              <a:gs pos="0">
                <a:srgbClr val="eaedf4"/>
              </a:gs>
              <a:gs pos="100000">
                <a:srgbClr val="afbbd4"/>
              </a:gs>
            </a:gsLst>
            <a:lin ang="5400000"/>
          </a:gradFill>
          <a:ln w="9360">
            <a:solidFill>
              <a:srgbClr val="003c6c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larm Serv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Down Arrow 12"/>
          <p:cNvSpPr/>
          <p:nvPr/>
        </p:nvSpPr>
        <p:spPr>
          <a:xfrm>
            <a:off x="4425840" y="1192320"/>
            <a:ext cx="209520" cy="596880"/>
          </a:xfrm>
          <a:prstGeom prst="downArrow">
            <a:avLst>
              <a:gd name="adj1" fmla="val 50000"/>
              <a:gd name="adj2" fmla="val 49920"/>
            </a:avLst>
          </a:prstGeom>
          <a:solidFill>
            <a:srgbClr val="ff9900"/>
          </a:solidFill>
          <a:ln w="0">
            <a:noFill/>
          </a:ln>
          <a:effectLst>
            <a:outerShdw dist="38183" dir="2700000" blurRad="0" rotWithShape="0">
              <a:srgbClr val="80808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78"/>
          <p:cNvSpPr/>
          <p:nvPr/>
        </p:nvSpPr>
        <p:spPr>
          <a:xfrm>
            <a:off x="3981600" y="133812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Annunci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Rectangle 78"/>
          <p:cNvSpPr/>
          <p:nvPr/>
        </p:nvSpPr>
        <p:spPr>
          <a:xfrm>
            <a:off x="3981600" y="2585880"/>
            <a:ext cx="1204920" cy="35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TEXT, [SEVERITY]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25T18:41:22Z</dcterms:created>
  <dc:creator>Kasemir Kay</dc:creator>
  <dc:description/>
  <dc:language>en-US</dc:language>
  <cp:lastModifiedBy>Kasemir Kay</cp:lastModifiedBy>
  <dcterms:modified xsi:type="dcterms:W3CDTF">2010-02-25T18:51:54Z</dcterms:modified>
  <cp:revision>3</cp:revision>
  <dc:subject/>
  <dc:title>Annunciator Graphics</dc:title>
</cp:coreProperties>
</file>