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F12D-8976-4245-9AD5-4B371774F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ACCF-2FD7-44CC-9089-FBDC8FBF2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8F21-7167-4BE8-91EC-AC1BB51A8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D5A5-9376-40A2-916A-E8778083A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A79E-0ECB-4332-87D6-26922FDD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3AF0-17A3-4DB9-9E26-CA105F6DE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2C17-D5FD-4688-95D1-AE8998348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A39F-7666-4FFD-8BE3-07D2AF5E4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B760-AE02-467B-ACE5-B15DFE682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DDDF-A128-468E-8252-2FAFD357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A631-C6BF-4ACE-AC0C-99BC9729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E4D4-33E7-4E00-9736-4DD7AB8D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0CCF7-0A84-40CC-A575-A0721EA22C26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2"/>
          <p:cNvSpPr/>
          <p:nvPr/>
        </p:nvSpPr>
        <p:spPr>
          <a:xfrm>
            <a:off x="3059280" y="1484280"/>
            <a:ext cx="2158920" cy="504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900000" y="2565360"/>
            <a:ext cx="1584360" cy="1584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Data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2"/>
          <p:cNvSpPr/>
          <p:nvPr/>
        </p:nvSpPr>
        <p:spPr>
          <a:xfrm>
            <a:off x="2411280" y="256536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2411280" y="335772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pecific: extends 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3059280" y="4797360"/>
            <a:ext cx="2158920" cy="574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Wr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3059280" y="333360"/>
            <a:ext cx="2158920" cy="57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e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3059280" y="5878440"/>
            <a:ext cx="2158920" cy="646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o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1" idx="2"/>
            <a:endCxn id="43" idx="0"/>
          </p:cNvCxnSpPr>
          <p:nvPr/>
        </p:nvCxnSpPr>
        <p:spPr>
          <a:xfrm flipH="1" rot="16200000">
            <a:off x="3850920" y="2276640"/>
            <a:ext cx="576720" cy="108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3" idx="3"/>
            <a:endCxn id="44" idx="3"/>
          </p:cNvCxnSpPr>
          <p:nvPr/>
        </p:nvCxnSpPr>
        <p:spPr>
          <a:xfrm>
            <a:off x="5867280" y="2960640"/>
            <a:ext cx="360" cy="792720"/>
          </a:xfrm>
          <a:prstGeom prst="bentConnector3">
            <a:avLst>
              <a:gd name="adj1" fmla="val 6570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stCxn id="44" idx="2"/>
            <a:endCxn id="45" idx="0"/>
          </p:cNvCxnSpPr>
          <p:nvPr/>
        </p:nvCxnSpPr>
        <p:spPr>
          <a:xfrm rot="5400000">
            <a:off x="3814200" y="4472280"/>
            <a:ext cx="649440" cy="1080"/>
          </a:xfrm>
          <a:prstGeom prst="bentConnector3">
            <a:avLst>
              <a:gd name="adj1" fmla="val 4997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3" idx="3"/>
            <a:endCxn id="45" idx="3"/>
          </p:cNvCxnSpPr>
          <p:nvPr/>
        </p:nvCxnSpPr>
        <p:spPr>
          <a:xfrm flipH="1">
            <a:off x="5218200" y="2960640"/>
            <a:ext cx="649440" cy="2124360"/>
          </a:xfrm>
          <a:prstGeom prst="bentConnector3">
            <a:avLst>
              <a:gd name="adj1" fmla="val -36439"/>
            </a:avLst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2" name=""/>
          <p:cNvCxnSpPr>
            <a:stCxn id="46" idx="2"/>
            <a:endCxn id="41" idx="0"/>
          </p:cNvCxnSpPr>
          <p:nvPr/>
        </p:nvCxnSpPr>
        <p:spPr>
          <a:xfrm rot="16200000">
            <a:off x="3850560" y="1195920"/>
            <a:ext cx="5767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7" idx="0"/>
          </p:cNvCxnSpPr>
          <p:nvPr/>
        </p:nvCxnSpPr>
        <p:spPr>
          <a:xfrm rot="16200000">
            <a:off x="3885480" y="5625360"/>
            <a:ext cx="5065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5580000" y="479736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Unused, but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12000" y="3789360"/>
            <a:ext cx="180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Validation - attribute existence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4:19:46Z</dcterms:created>
  <dc:creator>ssah</dc:creator>
  <dc:description/>
  <dc:language>en-US</dc:language>
  <cp:lastModifiedBy>ssah</cp:lastModifiedBy>
  <dcterms:modified xsi:type="dcterms:W3CDTF">2009-09-21T11:11:09Z</dcterms:modified>
  <cp:revision>10</cp:revision>
  <dc:subject/>
  <dc:title>Slide 1</dc:title>
</cp:coreProperties>
</file>