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BD1D-0371-499D-A62D-5EFB63416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8A09-6828-4280-95AC-F89D911D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88D7-4999-4D2C-831F-4E8DA5D32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2384-750F-4EFE-BDA8-2E675045C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9934-8BE3-4204-8890-5FF836E1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55DC-FA5E-480E-86A1-5EC79693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258D-58D3-4013-B524-CE507606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1B17-6DEE-4A43-99B1-7319B57F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81C1-8F1F-44E4-8D00-3CD2C0DB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07E3-3113-4E6F-B2C6-D789B05D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2DE2-FF59-48CE-A405-848FA22E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7FC9-9045-4190-AE33-7C6DEBBD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A4AA-E3B1-4611-B6C5-9E74343B8868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3059280" y="1484280"/>
            <a:ext cx="2158920" cy="504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900000" y="2565360"/>
            <a:ext cx="1584360" cy="1584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2411280" y="256536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2411280" y="335772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pecific: extends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59280" y="4797360"/>
            <a:ext cx="2158920" cy="574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059280" y="333360"/>
            <a:ext cx="2158920" cy="57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e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059280" y="5878440"/>
            <a:ext cx="2158920" cy="64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1" idx="2"/>
            <a:endCxn id="43" idx="0"/>
          </p:cNvCxnSpPr>
          <p:nvPr/>
        </p:nvCxnSpPr>
        <p:spPr>
          <a:xfrm flipH="1" rot="16200000">
            <a:off x="3850920" y="2276640"/>
            <a:ext cx="576720" cy="108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3" idx="3"/>
            <a:endCxn id="44" idx="3"/>
          </p:cNvCxnSpPr>
          <p:nvPr/>
        </p:nvCxnSpPr>
        <p:spPr>
          <a:xfrm>
            <a:off x="5867280" y="2960640"/>
            <a:ext cx="360" cy="792720"/>
          </a:xfrm>
          <a:prstGeom prst="bentConnector3">
            <a:avLst>
              <a:gd name="adj1" fmla="val 657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5" idx="0"/>
          </p:cNvCxnSpPr>
          <p:nvPr/>
        </p:nvCxnSpPr>
        <p:spPr>
          <a:xfrm rot="5400000">
            <a:off x="3814200" y="4472280"/>
            <a:ext cx="649440" cy="1080"/>
          </a:xfrm>
          <a:prstGeom prst="bentConnector3">
            <a:avLst>
              <a:gd name="adj1" fmla="val 4997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3"/>
            <a:endCxn id="45" idx="3"/>
          </p:cNvCxnSpPr>
          <p:nvPr/>
        </p:nvCxnSpPr>
        <p:spPr>
          <a:xfrm flipH="1">
            <a:off x="5218200" y="2960640"/>
            <a:ext cx="649440" cy="2124360"/>
          </a:xfrm>
          <a:prstGeom prst="bentConnector3">
            <a:avLst>
              <a:gd name="adj1" fmla="val -36439"/>
            </a:avLst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6" idx="2"/>
            <a:endCxn id="41" idx="0"/>
          </p:cNvCxnSpPr>
          <p:nvPr/>
        </p:nvCxnSpPr>
        <p:spPr>
          <a:xfrm rot="16200000">
            <a:off x="3850560" y="1195920"/>
            <a:ext cx="57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7" idx="0"/>
          </p:cNvCxnSpPr>
          <p:nvPr/>
        </p:nvCxnSpPr>
        <p:spPr>
          <a:xfrm rot="16200000">
            <a:off x="3885480" y="5625360"/>
            <a:ext cx="5065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580000" y="4797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Unused, but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789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Validation - attribute existence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19:46Z</dcterms:created>
  <dc:creator>ssah</dc:creator>
  <dc:description/>
  <dc:language>en-US</dc:language>
  <cp:lastModifiedBy>ssah</cp:lastModifiedBy>
  <dcterms:modified xsi:type="dcterms:W3CDTF">2009-09-21T11:11:09Z</dcterms:modified>
  <cp:revision>10</cp:revision>
  <dc:subject/>
  <dc:title>Slide 1</dc:title>
</cp:coreProperties>
</file>