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53D-F5E6-45DF-94CA-F4672CFC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1D1-1EE9-4F28-80F1-73ACE5C9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D96-10AE-4027-B7BC-D70B2BC5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5B2-CE2B-46AA-A54B-DCEE6278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997-85A6-43EC-9BBD-9269D344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DB93-189C-4640-A046-29A1AEFD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688C-4BAA-4C41-8BBC-892CF449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1F3-7C15-4A62-BAB9-2C12527F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E5C-C7D4-4251-B678-E2A237E7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79A-5B00-4C84-8463-B45BB670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938-9926-45C5-B4B7-2F333154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5EA-BA03-40CC-A167-AB6189CF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83B4A-C40F-4048-8FC7-1F4BF31419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462BE-FB5B-40B9-90B5-45493BD8A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unciator Graph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asemirk@ornl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lternate Process 6"/>
          <p:cNvSpPr/>
          <p:nvPr/>
        </p:nvSpPr>
        <p:spPr>
          <a:xfrm>
            <a:off x="3693960" y="1789200"/>
            <a:ext cx="1670040" cy="78732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992400" y="2205000"/>
            <a:ext cx="1054440" cy="247680"/>
          </a:xfrm>
          <a:prstGeom prst="rect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ction Button: Sound 7"/>
          <p:cNvSpPr/>
          <p:nvPr/>
        </p:nvSpPr>
        <p:spPr>
          <a:xfrm>
            <a:off x="4264200" y="4062240"/>
            <a:ext cx="520560" cy="401760"/>
          </a:xfrm>
          <a:custGeom>
            <a:avLst/>
            <a:gdLst>
              <a:gd name="textAreaLeft" fmla="*/ 25920 w 520560"/>
              <a:gd name="textAreaRight" fmla="*/ 494640 w 520560"/>
              <a:gd name="textAreaTop" fmla="*/ 25920 h 401760"/>
              <a:gd name="textAreaBottom" fmla="*/ 375840 h 401760"/>
            </a:gdLst>
            <a:ahLst/>
            <a:rect l="textAreaLeft" t="textAreaTop" r="textAreaRight" b="textAreaBottom"/>
            <a:pathLst>
              <a:path w="27981" h="21600">
                <a:moveTo>
                  <a:pt x="0" y="0"/>
                </a:moveTo>
                <a:lnTo>
                  <a:pt x="27981" y="0"/>
                </a:lnTo>
                <a:lnTo>
                  <a:pt x="27981" y="21600"/>
                </a:lnTo>
                <a:lnTo>
                  <a:pt x="0" y="21600"/>
                </a:lnTo>
                <a:close/>
              </a:path>
              <a:path fill="lightenLess" w="27981" h="21600">
                <a:moveTo>
                  <a:pt x="0" y="0"/>
                </a:moveTo>
                <a:lnTo>
                  <a:pt x="27981" y="0"/>
                </a:lnTo>
                <a:lnTo>
                  <a:pt x="26581" y="1400"/>
                </a:lnTo>
                <a:lnTo>
                  <a:pt x="1400" y="1400"/>
                </a:lnTo>
                <a:close/>
              </a:path>
              <a:path fill="darken" w="27981" h="21600">
                <a:moveTo>
                  <a:pt x="27981" y="0"/>
                </a:moveTo>
                <a:lnTo>
                  <a:pt x="27981" y="21600"/>
                </a:lnTo>
                <a:lnTo>
                  <a:pt x="26581" y="20200"/>
                </a:lnTo>
                <a:lnTo>
                  <a:pt x="26581" y="1400"/>
                </a:lnTo>
                <a:close/>
              </a:path>
              <a:path fill="darkenLess" w="27981" h="21600">
                <a:moveTo>
                  <a:pt x="27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1" y="20200"/>
                </a:lnTo>
                <a:close/>
              </a:path>
              <a:path fill="lighten" w="27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1" h="21600">
                <a:moveTo>
                  <a:pt x="6984" y="8406"/>
                </a:moveTo>
                <a:lnTo>
                  <a:pt x="11414" y="8406"/>
                </a:lnTo>
                <a:lnTo>
                  <a:pt x="15836" y="3794"/>
                </a:lnTo>
                <a:lnTo>
                  <a:pt x="15836" y="17806"/>
                </a:lnTo>
                <a:lnTo>
                  <a:pt x="11414" y="13194"/>
                </a:lnTo>
                <a:lnTo>
                  <a:pt x="6984" y="13194"/>
                </a:lnTo>
                <a:close/>
              </a:path>
              <a:path fill="darken" w="27981" h="21600">
                <a:moveTo>
                  <a:pt x="17490" y="10800"/>
                </a:moveTo>
                <a:lnTo>
                  <a:pt x="20997" y="10800"/>
                </a:lnTo>
              </a:path>
              <a:path fill="darken" w="27981" h="21600">
                <a:moveTo>
                  <a:pt x="17490" y="8406"/>
                </a:moveTo>
                <a:lnTo>
                  <a:pt x="20997" y="5639"/>
                </a:lnTo>
              </a:path>
              <a:path fill="darken" w="27981" h="21600">
                <a:moveTo>
                  <a:pt x="17490" y="13194"/>
                </a:moveTo>
                <a:lnTo>
                  <a:pt x="20997" y="15961"/>
                </a:lnTo>
              </a:path>
            </a:pathLst>
          </a:cu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lternate Process 8"/>
          <p:cNvSpPr/>
          <p:nvPr/>
        </p:nvSpPr>
        <p:spPr>
          <a:xfrm>
            <a:off x="3900600" y="2936880"/>
            <a:ext cx="1285920" cy="75420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unciat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own Arrow 9"/>
          <p:cNvSpPr/>
          <p:nvPr/>
        </p:nvSpPr>
        <p:spPr>
          <a:xfrm>
            <a:off x="4422600" y="3691080"/>
            <a:ext cx="201960" cy="37116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own Arrow 10"/>
          <p:cNvSpPr/>
          <p:nvPr/>
        </p:nvSpPr>
        <p:spPr>
          <a:xfrm>
            <a:off x="4425840" y="2576520"/>
            <a:ext cx="198720" cy="360360"/>
          </a:xfrm>
          <a:prstGeom prst="downArrow">
            <a:avLst>
              <a:gd name="adj1" fmla="val 50000"/>
              <a:gd name="adj2" fmla="val 49927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lternate Process 11"/>
          <p:cNvSpPr/>
          <p:nvPr/>
        </p:nvSpPr>
        <p:spPr>
          <a:xfrm>
            <a:off x="3693960" y="717480"/>
            <a:ext cx="1670040" cy="47484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arm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own Arrow 12"/>
          <p:cNvSpPr/>
          <p:nvPr/>
        </p:nvSpPr>
        <p:spPr>
          <a:xfrm>
            <a:off x="4425840" y="1192320"/>
            <a:ext cx="209520" cy="596880"/>
          </a:xfrm>
          <a:prstGeom prst="downArrow">
            <a:avLst>
              <a:gd name="adj1" fmla="val 50000"/>
              <a:gd name="adj2" fmla="val 49920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8"/>
          <p:cNvSpPr/>
          <p:nvPr/>
        </p:nvSpPr>
        <p:spPr>
          <a:xfrm>
            <a:off x="3981600" y="1338120"/>
            <a:ext cx="1204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nunci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8"/>
          <p:cNvSpPr/>
          <p:nvPr/>
        </p:nvSpPr>
        <p:spPr>
          <a:xfrm>
            <a:off x="3981600" y="2585880"/>
            <a:ext cx="1204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EXT, [SEVERITY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8:41:22Z</dcterms:created>
  <dc:creator>Kasemir Kay</dc:creator>
  <dc:description/>
  <dc:language>en-US</dc:language>
  <cp:lastModifiedBy>Kasemir Kay</cp:lastModifiedBy>
  <dcterms:modified xsi:type="dcterms:W3CDTF">2010-02-25T18:51:54Z</dcterms:modified>
  <cp:revision>3</cp:revision>
  <dc:subject/>
  <dc:title>Annunciator Graphics</dc:title>
</cp:coreProperties>
</file>