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A8E1-2490-4422-9F46-D8040E3EC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0B74-F990-493E-AD6B-54947447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5B00-BB17-4780-A1DB-E559BDA1C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A5BD-93AD-405C-8EA6-6E407B0FD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4B08-E03A-45E0-9B91-C06E6A8D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AB75-574E-4CB1-83CD-37DB405D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F65B-B21F-4D35-A8BD-3B470346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4CE5-FB6E-4006-9185-317ACE0A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8E50-3CA8-4D9B-AA35-BDBBFFF0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F37B-7742-4241-8957-4B3E9D5E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17EC-8524-4528-B87D-DC253188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4CD7-3DBA-40C7-8C61-DBA68043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B18B-3765-40E6-8A56-3251A3A6F173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3059280" y="1484280"/>
            <a:ext cx="2158920" cy="504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900000" y="2565360"/>
            <a:ext cx="1584360" cy="1584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2411280" y="256536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2411280" y="335772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pecific: extends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59280" y="4797360"/>
            <a:ext cx="2158920" cy="574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059280" y="333360"/>
            <a:ext cx="2158920" cy="57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e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059280" y="5878440"/>
            <a:ext cx="2158920" cy="64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1" idx="2"/>
            <a:endCxn id="43" idx="0"/>
          </p:cNvCxnSpPr>
          <p:nvPr/>
        </p:nvCxnSpPr>
        <p:spPr>
          <a:xfrm flipH="1" rot="16200000">
            <a:off x="3850920" y="2276640"/>
            <a:ext cx="576720" cy="108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3" idx="3"/>
            <a:endCxn id="44" idx="3"/>
          </p:cNvCxnSpPr>
          <p:nvPr/>
        </p:nvCxnSpPr>
        <p:spPr>
          <a:xfrm>
            <a:off x="5867280" y="2960640"/>
            <a:ext cx="360" cy="792720"/>
          </a:xfrm>
          <a:prstGeom prst="bentConnector3">
            <a:avLst>
              <a:gd name="adj1" fmla="val 657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5" idx="0"/>
          </p:cNvCxnSpPr>
          <p:nvPr/>
        </p:nvCxnSpPr>
        <p:spPr>
          <a:xfrm rot="5400000">
            <a:off x="3814200" y="4472280"/>
            <a:ext cx="649440" cy="1080"/>
          </a:xfrm>
          <a:prstGeom prst="bentConnector3">
            <a:avLst>
              <a:gd name="adj1" fmla="val 4997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3"/>
            <a:endCxn id="45" idx="3"/>
          </p:cNvCxnSpPr>
          <p:nvPr/>
        </p:nvCxnSpPr>
        <p:spPr>
          <a:xfrm flipH="1">
            <a:off x="5218200" y="2960640"/>
            <a:ext cx="649440" cy="2124360"/>
          </a:xfrm>
          <a:prstGeom prst="bentConnector3">
            <a:avLst>
              <a:gd name="adj1" fmla="val -36439"/>
            </a:avLst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6" idx="2"/>
            <a:endCxn id="41" idx="0"/>
          </p:cNvCxnSpPr>
          <p:nvPr/>
        </p:nvCxnSpPr>
        <p:spPr>
          <a:xfrm rot="16200000">
            <a:off x="3850560" y="1195920"/>
            <a:ext cx="57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7" idx="0"/>
          </p:cNvCxnSpPr>
          <p:nvPr/>
        </p:nvCxnSpPr>
        <p:spPr>
          <a:xfrm rot="16200000">
            <a:off x="3885480" y="5625360"/>
            <a:ext cx="5065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580000" y="4797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Unused, but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789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Validation - attribute existence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19:46Z</dcterms:created>
  <dc:creator>ssah</dc:creator>
  <dc:description/>
  <dc:language>en-US</dc:language>
  <cp:lastModifiedBy>ssah</cp:lastModifiedBy>
  <dcterms:modified xsi:type="dcterms:W3CDTF">2009-09-21T11:11:09Z</dcterms:modified>
  <cp:revision>10</cp:revision>
  <dc:subject/>
  <dc:title>Slide 1</dc:title>
</cp:coreProperties>
</file>