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87F-6CE1-46D4-8846-EF133AED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9FC-6B3E-4240-B7C8-14BC1D63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9C7-9012-4EA1-BB37-FE9D7E9D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5AB-F215-424D-981A-7A719235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02C-265D-4E0A-96B5-BF0DF2FE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685-3884-4BFA-B2C6-DDF10BD1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CA3-F464-4E65-9A42-E5A6BB59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E10-B1D4-4859-BDA6-C2AB0546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4A6-23E5-464E-9F29-8BC1FC3F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FF3-1969-4566-82B4-3B197A81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E8B-40C4-4665-8B42-2DA1829D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A01-ECD1-454F-9C87-615680D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FB79C-3689-4C88-8C64-4D9591D8B6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5EA79-C471-4705-8BC9-B0FD22ECE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unciator 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semirk@ornl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lternate Process 6"/>
          <p:cNvSpPr/>
          <p:nvPr/>
        </p:nvSpPr>
        <p:spPr>
          <a:xfrm>
            <a:off x="3693960" y="1789200"/>
            <a:ext cx="1670040" cy="78732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92400" y="2205000"/>
            <a:ext cx="1054440" cy="247680"/>
          </a:xfrm>
          <a:prstGeom prst="rect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ction Button: Sound 7"/>
          <p:cNvSpPr/>
          <p:nvPr/>
        </p:nvSpPr>
        <p:spPr>
          <a:xfrm>
            <a:off x="4264200" y="4062240"/>
            <a:ext cx="520560" cy="401760"/>
          </a:xfrm>
          <a:custGeom>
            <a:avLst/>
            <a:gdLst>
              <a:gd name="textAreaLeft" fmla="*/ 25920 w 520560"/>
              <a:gd name="textAreaRight" fmla="*/ 494640 w 52056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581" y="1400"/>
                </a:lnTo>
                <a:lnTo>
                  <a:pt x="1400" y="140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581" y="20200"/>
                </a:lnTo>
                <a:lnTo>
                  <a:pt x="26581" y="140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1" y="2020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1" h="21600">
                <a:moveTo>
                  <a:pt x="6984" y="8406"/>
                </a:moveTo>
                <a:lnTo>
                  <a:pt x="11414" y="8406"/>
                </a:lnTo>
                <a:lnTo>
                  <a:pt x="15836" y="3794"/>
                </a:lnTo>
                <a:lnTo>
                  <a:pt x="15836" y="17806"/>
                </a:lnTo>
                <a:lnTo>
                  <a:pt x="11414" y="13194"/>
                </a:lnTo>
                <a:lnTo>
                  <a:pt x="6984" y="13194"/>
                </a:lnTo>
                <a:close/>
              </a:path>
              <a:path fill="darken" w="27981" h="21600">
                <a:moveTo>
                  <a:pt x="17490" y="10800"/>
                </a:moveTo>
                <a:lnTo>
                  <a:pt x="20997" y="10800"/>
                </a:lnTo>
              </a:path>
              <a:path fill="darken" w="27981" h="21600">
                <a:moveTo>
                  <a:pt x="17490" y="8406"/>
                </a:moveTo>
                <a:lnTo>
                  <a:pt x="20997" y="5639"/>
                </a:lnTo>
              </a:path>
              <a:path fill="darken" w="27981" h="21600">
                <a:moveTo>
                  <a:pt x="17490" y="13194"/>
                </a:moveTo>
                <a:lnTo>
                  <a:pt x="20997" y="15961"/>
                </a:lnTo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lternate Process 8"/>
          <p:cNvSpPr/>
          <p:nvPr/>
        </p:nvSpPr>
        <p:spPr>
          <a:xfrm>
            <a:off x="3900600" y="2936880"/>
            <a:ext cx="1285920" cy="75420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nciat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own Arrow 9"/>
          <p:cNvSpPr/>
          <p:nvPr/>
        </p:nvSpPr>
        <p:spPr>
          <a:xfrm>
            <a:off x="4422600" y="3691080"/>
            <a:ext cx="201960" cy="3711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own Arrow 10"/>
          <p:cNvSpPr/>
          <p:nvPr/>
        </p:nvSpPr>
        <p:spPr>
          <a:xfrm>
            <a:off x="4425840" y="2576520"/>
            <a:ext cx="198720" cy="36036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lternate Process 11"/>
          <p:cNvSpPr/>
          <p:nvPr/>
        </p:nvSpPr>
        <p:spPr>
          <a:xfrm>
            <a:off x="3693960" y="717480"/>
            <a:ext cx="1670040" cy="47484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arm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12"/>
          <p:cNvSpPr/>
          <p:nvPr/>
        </p:nvSpPr>
        <p:spPr>
          <a:xfrm>
            <a:off x="4425840" y="1192320"/>
            <a:ext cx="209520" cy="596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8"/>
          <p:cNvSpPr/>
          <p:nvPr/>
        </p:nvSpPr>
        <p:spPr>
          <a:xfrm>
            <a:off x="3981600" y="133812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nunc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3981600" y="258588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XT, [SEVERITY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1:22Z</dcterms:created>
  <dc:creator>Kasemir Kay</dc:creator>
  <dc:description/>
  <dc:language>en-US</dc:language>
  <cp:lastModifiedBy>Kasemir Kay</cp:lastModifiedBy>
  <dcterms:modified xsi:type="dcterms:W3CDTF">2010-02-25T18:51:54Z</dcterms:modified>
  <cp:revision>3</cp:revision>
  <dc:subject/>
  <dc:title>Annunciator Graphics</dc:title>
</cp:coreProperties>
</file>