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156E-6886-4616-A33B-6BA0C5D77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8A18-8893-478E-A2C0-C760B00AB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0CCF-8462-4CD0-9869-6F43A30B3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6C31-F3E8-4DB3-89B0-AF226687D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AA33-F130-4F1A-B948-DFE9D7893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3691-B81E-4610-9993-0395A7119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F774-C9BA-404C-974D-10BD648F2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A6B8-D259-4E71-B257-CFF6ADD7A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0245-8C8A-453B-90C9-20AFE6662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38C4-F8AE-4D5F-9ACB-C5DA6514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FBC1-6105-455F-83C7-2090D847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29ED-8051-4EE2-8A09-6322BB58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324BD-3FE5-4DF9-9824-6DE91AF3D53F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2"/>
          <p:cNvSpPr/>
          <p:nvPr/>
        </p:nvSpPr>
        <p:spPr>
          <a:xfrm>
            <a:off x="3059280" y="1484280"/>
            <a:ext cx="2158920" cy="504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900000" y="2565360"/>
            <a:ext cx="1584360" cy="1584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Data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2"/>
          <p:cNvSpPr/>
          <p:nvPr/>
        </p:nvSpPr>
        <p:spPr>
          <a:xfrm>
            <a:off x="2411280" y="256536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2411280" y="335772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pecific: extends 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3059280" y="4797360"/>
            <a:ext cx="2158920" cy="574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Wr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3059280" y="333360"/>
            <a:ext cx="2158920" cy="57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e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3059280" y="5878440"/>
            <a:ext cx="2158920" cy="646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o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1" idx="2"/>
            <a:endCxn id="43" idx="0"/>
          </p:cNvCxnSpPr>
          <p:nvPr/>
        </p:nvCxnSpPr>
        <p:spPr>
          <a:xfrm flipH="1" rot="16200000">
            <a:off x="3850920" y="2276640"/>
            <a:ext cx="576720" cy="108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3" idx="3"/>
            <a:endCxn id="44" idx="3"/>
          </p:cNvCxnSpPr>
          <p:nvPr/>
        </p:nvCxnSpPr>
        <p:spPr>
          <a:xfrm>
            <a:off x="5867280" y="2960640"/>
            <a:ext cx="360" cy="792720"/>
          </a:xfrm>
          <a:prstGeom prst="bentConnector3">
            <a:avLst>
              <a:gd name="adj1" fmla="val 6570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stCxn id="44" idx="2"/>
            <a:endCxn id="45" idx="0"/>
          </p:cNvCxnSpPr>
          <p:nvPr/>
        </p:nvCxnSpPr>
        <p:spPr>
          <a:xfrm rot="5400000">
            <a:off x="3814200" y="4472280"/>
            <a:ext cx="649440" cy="1080"/>
          </a:xfrm>
          <a:prstGeom prst="bentConnector3">
            <a:avLst>
              <a:gd name="adj1" fmla="val 4997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3" idx="3"/>
            <a:endCxn id="45" idx="3"/>
          </p:cNvCxnSpPr>
          <p:nvPr/>
        </p:nvCxnSpPr>
        <p:spPr>
          <a:xfrm flipH="1">
            <a:off x="5218200" y="2960640"/>
            <a:ext cx="649440" cy="2124360"/>
          </a:xfrm>
          <a:prstGeom prst="bentConnector3">
            <a:avLst>
              <a:gd name="adj1" fmla="val -36439"/>
            </a:avLst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2" name=""/>
          <p:cNvCxnSpPr>
            <a:stCxn id="46" idx="2"/>
            <a:endCxn id="41" idx="0"/>
          </p:cNvCxnSpPr>
          <p:nvPr/>
        </p:nvCxnSpPr>
        <p:spPr>
          <a:xfrm rot="16200000">
            <a:off x="3850560" y="1195920"/>
            <a:ext cx="5767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7" idx="0"/>
          </p:cNvCxnSpPr>
          <p:nvPr/>
        </p:nvCxnSpPr>
        <p:spPr>
          <a:xfrm rot="16200000">
            <a:off x="3885480" y="5625360"/>
            <a:ext cx="5065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5580000" y="479736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Unused, but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12000" y="3789360"/>
            <a:ext cx="180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Validation - attribute existence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4:19:46Z</dcterms:created>
  <dc:creator>ssah</dc:creator>
  <dc:description/>
  <dc:language>en-US</dc:language>
  <cp:lastModifiedBy>ssah</cp:lastModifiedBy>
  <dcterms:modified xsi:type="dcterms:W3CDTF">2009-09-21T11:11:09Z</dcterms:modified>
  <cp:revision>10</cp:revision>
  <dc:subject/>
  <dc:title>Slide 1</dc:title>
</cp:coreProperties>
</file>