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9C8B-752A-423C-A50E-BE3FDA6BE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8D8C-B51D-446A-8B66-8976AC6C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B177-2C38-485C-87CE-6486DE5F8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AAEC-F9B4-46BE-82F2-C9DE8EB18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75FE-0583-48FA-A915-C108BC1C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0CFD-D731-474B-93A4-F9107B29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E33B-A7E1-4877-973D-932EECFC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E541-5698-4982-A7A3-754328A9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401F-8D16-433A-8215-27055B87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47FC-0742-4092-832A-F1F02773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6299-6654-4DD1-90D7-F41498A0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0EA5-E86F-4C93-8920-4CD16552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1B8393-2B67-4B0E-A2A8-6BEAFCA5AD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DE514B-15C4-416F-A075-E8E4966250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nunciator Graph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kasemirk@ornl.g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lternate Process 6"/>
          <p:cNvSpPr/>
          <p:nvPr/>
        </p:nvSpPr>
        <p:spPr>
          <a:xfrm>
            <a:off x="3693960" y="1789200"/>
            <a:ext cx="1670040" cy="787320"/>
          </a:xfrm>
          <a:prstGeom prst="flowChartAlternateProcess">
            <a:avLst/>
          </a:prstGeom>
          <a:gradFill rotWithShape="0">
            <a:gsLst>
              <a:gs pos="0">
                <a:srgbClr val="eaedf4"/>
              </a:gs>
              <a:gs pos="100000">
                <a:srgbClr val="afbbd4"/>
              </a:gs>
            </a:gsLst>
            <a:lin ang="5400000"/>
          </a:gradFill>
          <a:ln w="9360">
            <a:solidFill>
              <a:srgbClr val="003c6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992400" y="2205000"/>
            <a:ext cx="1054440" cy="247680"/>
          </a:xfrm>
          <a:prstGeom prst="rect">
            <a:avLst/>
          </a:prstGeom>
          <a:gradFill rotWithShape="0">
            <a:gsLst>
              <a:gs pos="0">
                <a:srgbClr val="eaedf4"/>
              </a:gs>
              <a:gs pos="100000">
                <a:srgbClr val="afbbd4"/>
              </a:gs>
            </a:gsLst>
            <a:lin ang="5400000"/>
          </a:gradFill>
          <a:ln w="9360">
            <a:solidFill>
              <a:srgbClr val="003c6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TA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ction Button: Sound 7"/>
          <p:cNvSpPr/>
          <p:nvPr/>
        </p:nvSpPr>
        <p:spPr>
          <a:xfrm>
            <a:off x="4264200" y="4062240"/>
            <a:ext cx="520560" cy="401760"/>
          </a:xfrm>
          <a:custGeom>
            <a:avLst/>
            <a:gdLst>
              <a:gd name="textAreaLeft" fmla="*/ 25920 w 520560"/>
              <a:gd name="textAreaRight" fmla="*/ 494640 w 520560"/>
              <a:gd name="textAreaTop" fmla="*/ 25920 h 401760"/>
              <a:gd name="textAreaBottom" fmla="*/ 375840 h 401760"/>
            </a:gdLst>
            <a:ahLst/>
            <a:rect l="textAreaLeft" t="textAreaTop" r="textAreaRight" b="textAreaBottom"/>
            <a:pathLst>
              <a:path w="27981" h="21600">
                <a:moveTo>
                  <a:pt x="0" y="0"/>
                </a:moveTo>
                <a:lnTo>
                  <a:pt x="27981" y="0"/>
                </a:lnTo>
                <a:lnTo>
                  <a:pt x="27981" y="21600"/>
                </a:lnTo>
                <a:lnTo>
                  <a:pt x="0" y="21600"/>
                </a:lnTo>
                <a:close/>
              </a:path>
              <a:path fill="lightenLess" w="27981" h="21600">
                <a:moveTo>
                  <a:pt x="0" y="0"/>
                </a:moveTo>
                <a:lnTo>
                  <a:pt x="27981" y="0"/>
                </a:lnTo>
                <a:lnTo>
                  <a:pt x="26581" y="1400"/>
                </a:lnTo>
                <a:lnTo>
                  <a:pt x="1400" y="1400"/>
                </a:lnTo>
                <a:close/>
              </a:path>
              <a:path fill="darken" w="27981" h="21600">
                <a:moveTo>
                  <a:pt x="27981" y="0"/>
                </a:moveTo>
                <a:lnTo>
                  <a:pt x="27981" y="21600"/>
                </a:lnTo>
                <a:lnTo>
                  <a:pt x="26581" y="20200"/>
                </a:lnTo>
                <a:lnTo>
                  <a:pt x="26581" y="1400"/>
                </a:lnTo>
                <a:close/>
              </a:path>
              <a:path fill="darkenLess" w="27981" h="21600">
                <a:moveTo>
                  <a:pt x="27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81" y="20200"/>
                </a:lnTo>
                <a:close/>
              </a:path>
              <a:path fill="lighten" w="27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81" h="21600">
                <a:moveTo>
                  <a:pt x="6984" y="8406"/>
                </a:moveTo>
                <a:lnTo>
                  <a:pt x="11414" y="8406"/>
                </a:lnTo>
                <a:lnTo>
                  <a:pt x="15836" y="3794"/>
                </a:lnTo>
                <a:lnTo>
                  <a:pt x="15836" y="17806"/>
                </a:lnTo>
                <a:lnTo>
                  <a:pt x="11414" y="13194"/>
                </a:lnTo>
                <a:lnTo>
                  <a:pt x="6984" y="13194"/>
                </a:lnTo>
                <a:close/>
              </a:path>
              <a:path fill="darken" w="27981" h="21600">
                <a:moveTo>
                  <a:pt x="17490" y="10800"/>
                </a:moveTo>
                <a:lnTo>
                  <a:pt x="20997" y="10800"/>
                </a:lnTo>
              </a:path>
              <a:path fill="darken" w="27981" h="21600">
                <a:moveTo>
                  <a:pt x="17490" y="8406"/>
                </a:moveTo>
                <a:lnTo>
                  <a:pt x="20997" y="5639"/>
                </a:lnTo>
              </a:path>
              <a:path fill="darken" w="27981" h="21600">
                <a:moveTo>
                  <a:pt x="17490" y="13194"/>
                </a:moveTo>
                <a:lnTo>
                  <a:pt x="20997" y="15961"/>
                </a:lnTo>
              </a:path>
            </a:pathLst>
          </a:cu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lternate Process 8"/>
          <p:cNvSpPr/>
          <p:nvPr/>
        </p:nvSpPr>
        <p:spPr>
          <a:xfrm>
            <a:off x="3900600" y="2936880"/>
            <a:ext cx="1285920" cy="754200"/>
          </a:xfrm>
          <a:prstGeom prst="flowChartAlternateProcess">
            <a:avLst/>
          </a:prstGeom>
          <a:gradFill rotWithShape="0">
            <a:gsLst>
              <a:gs pos="0">
                <a:srgbClr val="eaedf4"/>
              </a:gs>
              <a:gs pos="100000">
                <a:srgbClr val="afbbd4"/>
              </a:gs>
            </a:gsLst>
            <a:lin ang="5400000"/>
          </a:gradFill>
          <a:ln w="9360">
            <a:solidFill>
              <a:srgbClr val="003c6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nunciat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own Arrow 9"/>
          <p:cNvSpPr/>
          <p:nvPr/>
        </p:nvSpPr>
        <p:spPr>
          <a:xfrm>
            <a:off x="4422600" y="3691080"/>
            <a:ext cx="201960" cy="371160"/>
          </a:xfrm>
          <a:prstGeom prst="downArrow">
            <a:avLst>
              <a:gd name="adj1" fmla="val 50000"/>
              <a:gd name="adj2" fmla="val 49875"/>
            </a:avLst>
          </a:prstGeom>
          <a:solidFill>
            <a:srgbClr val="ff990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own Arrow 10"/>
          <p:cNvSpPr/>
          <p:nvPr/>
        </p:nvSpPr>
        <p:spPr>
          <a:xfrm>
            <a:off x="4425840" y="2576520"/>
            <a:ext cx="198720" cy="360360"/>
          </a:xfrm>
          <a:prstGeom prst="downArrow">
            <a:avLst>
              <a:gd name="adj1" fmla="val 50000"/>
              <a:gd name="adj2" fmla="val 49927"/>
            </a:avLst>
          </a:prstGeom>
          <a:solidFill>
            <a:srgbClr val="ff990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lternate Process 11"/>
          <p:cNvSpPr/>
          <p:nvPr/>
        </p:nvSpPr>
        <p:spPr>
          <a:xfrm>
            <a:off x="3693960" y="717480"/>
            <a:ext cx="1670040" cy="474840"/>
          </a:xfrm>
          <a:prstGeom prst="flowChartAlternateProcess">
            <a:avLst/>
          </a:prstGeom>
          <a:gradFill rotWithShape="0">
            <a:gsLst>
              <a:gs pos="0">
                <a:srgbClr val="eaedf4"/>
              </a:gs>
              <a:gs pos="100000">
                <a:srgbClr val="afbbd4"/>
              </a:gs>
            </a:gsLst>
            <a:lin ang="5400000"/>
          </a:gradFill>
          <a:ln w="9360">
            <a:solidFill>
              <a:srgbClr val="003c6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arm Serv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own Arrow 12"/>
          <p:cNvSpPr/>
          <p:nvPr/>
        </p:nvSpPr>
        <p:spPr>
          <a:xfrm>
            <a:off x="4425840" y="1192320"/>
            <a:ext cx="209520" cy="596880"/>
          </a:xfrm>
          <a:prstGeom prst="downArrow">
            <a:avLst>
              <a:gd name="adj1" fmla="val 50000"/>
              <a:gd name="adj2" fmla="val 49920"/>
            </a:avLst>
          </a:prstGeom>
          <a:solidFill>
            <a:srgbClr val="ff990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78"/>
          <p:cNvSpPr/>
          <p:nvPr/>
        </p:nvSpPr>
        <p:spPr>
          <a:xfrm>
            <a:off x="3981600" y="1338120"/>
            <a:ext cx="1204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nnunci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8"/>
          <p:cNvSpPr/>
          <p:nvPr/>
        </p:nvSpPr>
        <p:spPr>
          <a:xfrm>
            <a:off x="3981600" y="2585880"/>
            <a:ext cx="1204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TEXT, [SEVERITY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8:41:22Z</dcterms:created>
  <dc:creator>Kasemir Kay</dc:creator>
  <dc:description/>
  <dc:language>en-US</dc:language>
  <cp:lastModifiedBy>Kasemir Kay</cp:lastModifiedBy>
  <dcterms:modified xsi:type="dcterms:W3CDTF">2010-02-25T18:51:54Z</dcterms:modified>
  <cp:revision>3</cp:revision>
  <dc:subject/>
  <dc:title>Annunciator Graphics</dc:title>
</cp:coreProperties>
</file>